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F34ED-C61B-4415-A89B-657847C4EB7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A6751-5297-450B-9C00-BC3FBAD5F30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9A7F9-6BFD-4C49-A6B6-722CFB4C0C1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BC97A-5E0A-4D59-A723-BEDF24B4005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27C72-B6FB-4615-960F-02F74D3792F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B9F9D-0B2B-4318-9F3F-D1E595A10F4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C44BD-2285-4D29-A6B1-E69216F80AE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216FB-57F7-4113-A0AE-F5C48CF745B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51BE0-4BB5-4F39-A3E7-69B89A37088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40FA7-DE16-4D6C-92A1-3F11805BDAA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BA50-393B-45C7-A92E-14E4A85D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AA7-E521-4D30-82E9-183CAA3C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727-5139-4CC9-8C9A-33B19A41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78AF-2F23-4143-AD7B-DC403DBB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B51F-ED4F-442A-A376-029F363F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0B5-E6B8-4B7C-84DA-5CF1C904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2E64-E909-44F4-AC4B-91E926A1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7CF-68DC-49F3-9C71-9F8AD2BF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52D6-3783-4E43-998F-488619E2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D786-2073-4E91-861B-14442308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65C-B055-4C51-ACDC-526D40BB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A1E4-4692-41B7-AAE4-44B9E384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E5225-70C6-49B1-ACE1-2297121BE4E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hyperlink" Target="http://patient.info/health/the-male-reproductive-system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701640" y="1368360"/>
            <a:ext cx="6931080" cy="5662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5784840" y="936720"/>
            <a:ext cx="3359160" cy="1226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5832360" y="2664000"/>
            <a:ext cx="4194360" cy="1012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4"/>
          <a:stretch/>
        </p:blipFill>
        <p:spPr>
          <a:xfrm>
            <a:off x="6335640" y="4389480"/>
            <a:ext cx="3548160" cy="1227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008000" y="282600"/>
            <a:ext cx="78487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ALE REPRODUC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 Rectángulo"/>
          <p:cNvSpPr/>
          <p:nvPr/>
        </p:nvSpPr>
        <p:spPr>
          <a:xfrm>
            <a:off x="1440000" y="7067520"/>
            <a:ext cx="71928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patient.info/health/the-male-reproductive-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rte transversal del p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0" t="9994" r="0" b="0"/>
          <a:stretch/>
        </p:blipFill>
        <p:spPr>
          <a:xfrm>
            <a:off x="179280" y="1728720"/>
            <a:ext cx="9744120" cy="48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canismo de la ere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3480" y="1895400"/>
            <a:ext cx="9883800" cy="5591160"/>
          </a:xfrm>
          <a:prstGeom prst="rect">
            <a:avLst/>
          </a:prstGeom>
          <a:ln w="0">
            <a:noFill/>
          </a:ln>
        </p:spPr>
      </p:pic>
      <p:sp>
        <p:nvSpPr>
          <p:cNvPr id="58" name="1 CuadroTexto"/>
          <p:cNvSpPr/>
          <p:nvPr/>
        </p:nvSpPr>
        <p:spPr>
          <a:xfrm>
            <a:off x="3543480" y="6093000"/>
            <a:ext cx="5025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l llenarse de sangre los cuerpos cavernosos, el pene alcanza un mayor volumen, tanto en longitud como en diámetro, y una consistencia rígida necesaria para culminar el acto sexual con la penet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611360" y="1695600"/>
            <a:ext cx="7603920" cy="56498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2016000" y="1079640"/>
            <a:ext cx="640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ALE REPRODUCTIV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2016000" y="431640"/>
            <a:ext cx="64087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ALE REPRODUCTIV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28480" y="1008000"/>
            <a:ext cx="820260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2016000" y="1170000"/>
            <a:ext cx="5958000" cy="59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2016000" y="433440"/>
            <a:ext cx="640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ALE REPRODUCTIV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485640" y="1441440"/>
            <a:ext cx="9142560" cy="5803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2016000" y="870120"/>
            <a:ext cx="640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ALE REPRODUCTIV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2023920" y="1800360"/>
            <a:ext cx="6832800" cy="5140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2016000" y="870120"/>
            <a:ext cx="640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ALE REPRODUCTIV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1295280" y="1751040"/>
            <a:ext cx="7631280" cy="51609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1871640" y="576360"/>
            <a:ext cx="640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ALE REPRODUCTIV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879640" y="1152360"/>
            <a:ext cx="374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ydig ce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duce testoste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3816360" y="1440000"/>
            <a:ext cx="1079640" cy="792000"/>
          </a:xfrm>
          <a:prstGeom prst="line">
            <a:avLst/>
          </a:prstGeom>
          <a:ln w="18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871640" y="7056360"/>
            <a:ext cx="698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rtoli ce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vide nourishment to the developing sperma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V="1">
            <a:off x="2592360" y="6189840"/>
            <a:ext cx="720720" cy="1155600"/>
          </a:xfrm>
          <a:prstGeom prst="line">
            <a:avLst/>
          </a:prstGeom>
          <a:ln w="18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14:44:07Z</dcterms:created>
  <dc:creator>Rafael Moreno</dc:creator>
  <dc:description/>
  <dc:language>en-US</dc:language>
  <cp:lastModifiedBy>Rafael Moreno</cp:lastModifiedBy>
  <dcterms:modified xsi:type="dcterms:W3CDTF">2016-06-18T09:46:06Z</dcterms:modified>
  <cp:revision>3</cp:revision>
  <dc:subject/>
  <dc:title>Presentación de PowerPoint</dc:title>
</cp:coreProperties>
</file>